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C6A3E-A562-4090-AE81-A6245BBE65B5}"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53FFC-9EA9-4507-82B2-2D7BA4E8824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EC8A4-F7D6-4F8E-8029-6741E470B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4A971-8B1B-4AB4-B8B4-FC36E024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D540-5E0F-4696-B1EA-2D57754C8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92A2D1-60DF-49F5-894F-DCFD78BAB6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BD0E97-FC22-45B9-A9E5-0C6E0649D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188CF-76EA-4499-B490-52334C38E2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13A70-8109-4EEC-8BDB-0ACC93052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9036E3-09AF-4BCB-805D-C0145553C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299DA-EBA9-4916-9BED-0297479AF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7D8A5-CCFB-4F3A-84F3-06DBE6256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785D12-D84F-445B-B555-273B7B1DCF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DBFD9E-020C-4BC2-A0EB-670BBF4A13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98126B-7A37-4FEF-9C3C-72FD8C73BF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4B44B-8F76-407C-88C6-7224A5291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819B8F-026B-4CB1-9385-CB9604A3FE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06EDB7-2E55-4E8A-91EC-CB4861D4BA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61F3F5-4BDE-48D8-991A-55AA9CCD45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F7F1C6-9424-4059-80B5-3ACAFE5395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F71D58-A388-4087-82BD-958BDA3E1F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67E4A1-31B4-40EC-9F5B-7C2832776B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1B7012-F4CE-49FE-AE66-8547BB3954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787420-A694-4188-8DF2-FEFE6CE15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E39AC2-EA3C-4A0B-B22B-6C7994FCFC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A06F95-2148-4252-911E-72629EEFD3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548FE-6F15-46F0-9F16-E3F75D0A6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85F98C-B0E3-49CA-AFB5-365F0E688DD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CD8E44-D82B-453F-B392-2422C7A1B6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7695BD-1E13-4B3A-A9BA-5D4926D9FE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A93F2D-2732-49CD-AB61-6AB31A4400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5032D8-ED08-4926-A838-A25ED4D758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06ACFD-E661-42F9-9529-7AD8AC841E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EB9612-6F75-47CA-A65B-44F077B132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6B3E4A-24A7-48A3-AF95-BECCEF452E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6927F6-E3BE-4E3C-9BD8-296300F8F5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178513-4EB4-4DD0-B92F-E2035B2579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AA5EF0E-4A37-4D8C-A358-0CF84671ADF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AEA61E-9D3D-43FF-ABD7-6AE7747744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D00AD5-BDD6-47D0-B790-41D0DBD631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118386-27A3-4093-B84B-BB6493F136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6B9F84-F0F9-4DB5-B1ED-10ED974DF0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841804-1E13-496A-ACB7-342A3C59C2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D3D4AF-6ED0-43E9-A6FD-F31E97A7A0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CB1B3B-0FC5-4554-94E6-DD1CC857A9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5ED0BE-0707-4C71-A953-955062AF94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2E8316-31E8-42EF-A3B0-FEC1F9051A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6B32D4-AEAB-4AA2-BE6A-A921765956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63BA183-106C-4387-83B4-F8D4B884C1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9B3B17-5957-4226-81B6-2AF2ED7F70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23F9A5-8397-4623-81CE-816801540A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10FB93-78B4-4262-8D17-7AD53A217B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27161A-0F54-4404-9422-79DD9E8AC6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A2B262-5E5B-43F2-B723-304F4AA115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8FFC50-F733-4F65-AF3F-517ADB22E4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C0A38F-3912-4367-8180-B01C3674D7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4D1DE6-BCC9-40ED-8916-B81366E2AB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588A7C-3F14-42FA-B834-1CFF1F101C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750DBC-E64E-45F7-A95A-6E8DCA3F58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906D977-6818-4575-884D-F9EDFC6E6F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373975-E7AF-426B-A574-B942E066C7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2E56F2-8B88-41BF-A30D-0980749847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C6265C-025B-4E91-8D5C-D78E0E2218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B88FDE-5C2D-4A0E-AF79-E83B5E5F87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2FD76C-634C-44B4-A024-D53D5876A2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D5F755-A5CB-482F-BDF3-1837229EAA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0E7BE0-7620-43C2-8903-D4A7B06C09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3EAFB1-BD5B-42EE-8255-1BC1F10E84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451A50-ED0F-4DE3-8C80-8C44A82D3F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EC7A86-A658-4A21-937C-A317117D32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B9431EF-AA3F-480D-A7C6-9836541AB4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1D934E-0F2A-4322-8C10-BAC6269E58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C3B9F9-4BBC-4EC8-BC4E-4FA52CA888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209622-24A0-4B9F-BBE9-F5A7B92B0F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C8E7B9-EDD1-45C8-BA07-0FE0FFD838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26FEE7-687D-40D6-9932-D990A082E0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1710FC-6983-477C-810C-07B1CB6AE6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0F2ACD-9A2E-4F51-B1F0-2F33F72C09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40FDD8B-6E02-4864-B876-94081BFCF0D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9801B06-6E41-4A4A-B7A8-9FB1F396A2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7B90444-7940-470D-B814-DF31F4EDD54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136D92B-224D-450E-AD66-A3F62870D8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3875A5-758E-4BCB-98F6-F81E5EC2E3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A00A68-1DD5-4FD5-8818-D25BBD821B0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FC684E-A8BF-44D7-A6D8-9AEC041E3E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E0E142-8CFB-4B7E-9C61-B12B19A006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C4B2ED-BDEC-49E2-B0F3-39FC1AFA46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7DEA21-8F6C-41E6-BDA9-EDD6CCEBC2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B03128-4835-4494-B75B-CCD4708DEA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8E02D9-F211-42FC-A3EA-0DC10A1F97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F8D69E1-75D2-4661-9ADC-322736A228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8FDE1E-8255-45A8-8436-9E62C57E7A2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B73BA5C-99E3-41FB-822D-9B52C6C64D7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72D917-808A-4A5C-B180-3A829885361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A675289-3CC7-4F11-9724-30CD5704397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012C53-68DC-4EAE-B5EF-D0EEEDFD8F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3DB1F4-85AF-4274-B201-A0A32BE604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EE3938-F4FB-4FCA-93A3-836523DB8A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734A2A-22D4-4ECE-BC92-FEFD453C17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239364-933D-4A64-A149-DAF5E27808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62085B-ED8E-4483-8D14-BE3B60FC5F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79C5A7-C988-45BD-90A5-7D3DB1B99F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706BAB-26EC-4055-BF35-0347C45F40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8FC8D81-89BA-4251-87A3-E3F7D47EB2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05DA1C-ACA1-4FE3-927A-97FB83B9E8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6A943F4-74B9-4153-8DF4-72E9F55C779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199220-DCE7-4FF8-B365-E1FEA22DCD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1CAF57D-0502-43BD-8073-7BC89665B0A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5EA606A-0ECB-445A-B7B9-E0DF2E0C471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C8B795-2097-473A-B41B-C1879C1841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18D8FA-8BDB-41CA-9EC2-D91BE9F74F7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CF13BF-4A23-4A93-BA97-496838EF0C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5AD219-14DB-44E5-BD59-0AABA71E800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51BB27-DAFE-482E-859B-339B3F1585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93A51-5E07-4324-BB54-742BAC60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5EE6677-3DB7-41DE-90B3-F5151A9C85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4D6D47-F5A1-46B6-BFA9-8ED5B5F32F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F3F890-6B66-4713-9B54-6FA22C80DE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844AE9-F3EA-4B28-9650-91B8D5E43E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B4D5335-1599-484F-B35E-5714B9E863D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E3ECAD5-2EAA-4895-BA03-8ACF6ED1BFA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354DAF7-C9D5-43C7-B00A-54BC2A8454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81ED611-6E7B-444E-8323-848F5AD312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1FE758F-C81D-4125-B610-463983EE0BE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2663933-0F8B-494C-983F-CECB397AADD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6CD87-3414-4AED-90CE-F5C8BA42A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880D6-6FB2-464D-A9FA-4B63A61E1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93ADD-B820-4714-9397-5E83864BB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1A9C5-269F-450A-9AE8-94AC63FE4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A39E0-1647-4E0E-8E39-735E69381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4A7C-1856-48ED-B0B3-CBF25BED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F6E40-364A-455A-94DB-28DFAAD5B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3CEE2-3C6F-40ED-9747-4AB87A143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79662-7830-4664-92BE-0EAF32C35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FF65B-F42F-456C-83B3-1E42EE8B2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62DE5-F9CD-4D45-A2B5-17D56F1BA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A8045-43F0-443D-849D-B8F774CF91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D21193-98F8-49B6-A7CC-3B894B7B6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2BC51A-83FD-4FFF-9C26-833D51D79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FFB4D-4157-4BA8-AE14-91916890CC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D712D-FA57-452F-A55C-95A96FF1D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F0E1F-269E-43D9-931D-5650C9BB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3638B-6FE4-4EF5-98FF-22EAD2833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4CC3A-AC06-408D-8036-CC4B43FFB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CA9CD-6E5B-4EDE-82D9-34D0B6A27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3D8EF-E07F-4600-B37B-2392C20AA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F9464-9701-4640-AD51-091CB6329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FE2A7-07A6-4E41-8574-9DF5ACFC5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C21026-8FB0-42E3-BFF8-791234A79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FBCDD-EFA5-49E7-AC32-A660DC8BC0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F70255-6504-4974-B3B1-7DA0B2AFA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C761BD-4AAB-494C-AB0E-6A83ECAAA3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1AA5-52E6-4156-B032-214F9DA50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E946B-F1B6-4613-B1C8-8310291E9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0E357-454E-45B9-841F-D07A1F4D72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7E7BC-29DE-4FFB-9472-FCAD23D5B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36D46-92A4-4CD5-884D-274DB22EE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C07CF9-2763-422A-9873-6ED11140A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5B157-8E70-41AD-8719-74A8BD926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63772-CD22-4CCB-A4E3-E65691680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D452B-8D94-4395-AC46-1F6B55DC1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D867C-67BF-4FF1-AA8D-9DBA9DD69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D56D4-7E47-4F86-A472-B80A7AAB97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19707-8C19-440F-A0F9-87E6728C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367460-23AF-4CC6-BD70-A194EB313F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746324-C7D0-49D9-9079-963FA3F240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26062-6A38-41ED-A69B-1A9BEC59F0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AEB98-5208-43B1-8F5B-37F5F2376E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18242-5753-4E1E-AD35-6F5552DFBC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C44D5-0DD9-4CAF-825D-548F4F7D63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DA053-6D29-437E-869C-9BFC92002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D2826-88CB-4EE9-99A9-4A7AD8F65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FF51F-B621-43DF-A998-0EC5A822D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A85C9-94EE-4D5D-8409-13E5230C0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A3C1-78B6-4082-B175-46147F47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AE017-A039-43AA-8E17-203615258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CF0DB8-2625-488B-8478-7DA6B3FA70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AA881E-728E-484B-82ED-73B8E7796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250E7F-E196-4D95-9EE9-0F6AC585E9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6C3388-3A03-45FB-85FA-8B3284E82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E5DB8-DC03-4ABA-937B-907608743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1319F0-02B0-40D4-A280-AD36F2492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C6515-6BCC-4FF4-9164-754A12D1E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B98D06-B48A-4BD3-A3D0-0E7FBAF50A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9420A-0620-4E92-86F3-F3A389FD6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47BE-D198-492E-87FF-27ECA4440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8CE25-02D1-41BB-B879-11CDD7E9A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0B720E-7B24-4AEE-BA2D-09757AA8A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6488A-187D-46ED-8B39-DC891FE3D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16C927-54AC-4ECD-A80C-29F5A0EE95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203C3B-2A39-49C3-86CE-8E602E90B0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5C1D54-C512-49BB-9C8B-AB9D0365C5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5B928-A720-4C35-A5BE-A556DB710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AD68C-6678-4DE6-8C10-E967E07050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055CF-CA5B-4DE3-9F10-C0CEB2C0E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F0A8A-14C9-437F-A692-D864A7BA7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6B1E-9138-4BE7-A2C9-F09674A1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C8D48-DA91-4101-A1B5-E3E15F228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22F5A-989D-4A6C-9A32-934EC29E7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928F8-B9E2-488F-AD78-29371B905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5C951-93D4-47A0-B17A-5DEAADB9A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8B59D-0614-4272-950A-EFD538E3D8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A3A811-9F7B-42F3-946D-8449A80EB8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1946B2-A22B-4B73-9F48-2321B0A15C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435DD1-6581-45EC-8072-778BE11DD6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D81DE-FD39-4CBA-814D-8F5E0C81ED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8C81C0-3825-4D3F-95AF-105A88CD7F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5BDDD-D5BF-47C4-A3E5-2A20C46E102F}"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A172C-27C7-4F44-9BD8-C4612AC7F1E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9C88B-EAC9-4C30-9043-E65495FEE21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12B18-37CE-404E-BC93-7CD67728096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9F7C6-30BD-4097-9392-A383C620939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240F6-DF1E-4FA0-A64D-EFEACB693E5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96EC8-37DE-45BB-9C0C-B17D05063009}"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2C623-50F1-449A-9CA7-067609F7751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9DB01-A140-4AA6-970D-468BD894482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81F84-8278-4F8F-9736-21807A3ABAF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BD36F-0F65-40BD-A2C8-F7B8C06EAC99}"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4FAB1-FCE5-466B-831F-5CCCDEE2C31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A23AD-3209-46F6-B267-35CAD3C6E79A}"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3B5EF-6E80-4617-B456-3069499FF43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C20F5-8004-428C-8B21-4B3278BFAF0D}"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87961-4ACE-4981-B201-3AE3A5A019A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9B45E-BA45-4C04-9E19-C40EBFBD52DC}"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8252F-52DB-4B28-B6B3-24FE2A63DC9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369B5-55C3-40F8-A955-4E5D3105DE2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D1C79-4252-43B7-8032-73CDBC3502B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7D2A0-145A-48E7-9B35-680B8281F24A}"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814F8-04D4-4373-AF24-D54C9E03CDC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01FA8-68B3-4409-A921-3DD1E5CE5614}"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A8CB0-6A41-4F35-852E-2F55CA9F102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BEFC6-73EF-40F8-9BB2-62337FD540F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9DBDF-0BEE-4F94-9CBD-EDF836D442C7}"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B3577-3B6B-4FF2-A30E-278470B5F6E6}"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03955-6811-45CC-8B87-7976C4C6AD2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E15F6-EC64-4FC4-B2E3-946B844C8AC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B74F1-BACC-41A6-A4E8-5BE0B05CE7B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0A6BC-1E8B-4658-A20E-5020E807EDFE}"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06DEB-A28D-4771-8A0F-EF6BD53EB40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3A9C8-F3AF-422C-9BA9-ED0A80DB6268}" type="datetime">
              <a:rPr b="0" lang="en-US" sz="1200" spc="-1" strike="noStrike">
                <a:solidFill>
                  <a:srgbClr val="38abed"/>
                </a:solidFill>
                <a:latin typeface="Trebuchet MS"/>
              </a:rPr>
              <a:t>07/30/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4745B-82D4-418C-88B2-F6710DF8878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0" y="0"/>
            <a:ext cx="9144000" cy="6861240"/>
          </a:xfrm>
          <a:prstGeom prst="rect">
            <a:avLst/>
          </a:prstGeom>
          <a:ln w="0">
            <a:noFill/>
          </a:ln>
        </p:spPr>
      </p:pic>
      <p:sp>
        <p:nvSpPr>
          <p:cNvPr id="742" name="PlaceHolder 1"/>
          <p:cNvSpPr>
            <a:spLocks noGrp="1"/>
          </p:cNvSpPr>
          <p:nvPr>
            <p:ph type="title"/>
          </p:nvPr>
        </p:nvSpPr>
        <p:spPr>
          <a:xfrm>
            <a:off x="2117520" y="-476640"/>
            <a:ext cx="67626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rebuchet MS"/>
              </a:rPr>
              <a:t>Crime Investigation</a:t>
            </a:r>
            <a:endParaRPr b="0" lang="en-US" sz="4400" spc="-1" strike="noStrike">
              <a:solidFill>
                <a:srgbClr val="ffffff"/>
              </a:solidFill>
              <a:latin typeface="Trebuchet MS"/>
            </a:endParaRPr>
          </a:p>
        </p:txBody>
      </p:sp>
      <p:sp>
        <p:nvSpPr>
          <p:cNvPr id="743" name="PlaceHolder 2"/>
          <p:cNvSpPr>
            <a:spLocks noGrp="1"/>
          </p:cNvSpPr>
          <p:nvPr>
            <p:ph type="subTitle"/>
          </p:nvPr>
        </p:nvSpPr>
        <p:spPr>
          <a:xfrm>
            <a:off x="2479680" y="5905440"/>
            <a:ext cx="6400800" cy="938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oseph Stanford III</a:t>
            </a:r>
            <a:endParaRPr b="0" lang="en-US" sz="18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tober 11, 2011</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279360" y="1270080"/>
            <a:ext cx="86090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rst responders and law enforcement agencies around the world are actively utilizing the ShotSpotter Gunshot Location System to give them an edge on gun crime by having otherwise unavailable firearms, violent crime alerts, and activity data.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n seizures in the target area rose by 60%, and gun crimes dropped by 49%.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 Part 2</a:t>
            </a:r>
            <a:endParaRPr b="0" lang="en-US" sz="3800" spc="-1" strike="noStrike">
              <a:solidFill>
                <a:srgbClr val="ffffff"/>
              </a:solidFill>
              <a:latin typeface="Trebuchet MS"/>
            </a:endParaRPr>
          </a:p>
        </p:txBody>
      </p:sp>
      <p:sp>
        <p:nvSpPr>
          <p:cNvPr id="757" name=""/>
          <p:cNvSpPr txBox="1"/>
          <p:nvPr/>
        </p:nvSpPr>
        <p:spPr>
          <a:xfrm>
            <a:off x="779040" y="1623600"/>
            <a:ext cx="7583400" cy="4667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What group of people are you helping?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Ceasefire stop murder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any clients will be included?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 </a:t>
            </a:r>
            <a:r>
              <a:rPr b="0" lang="en-US" sz="1800" spc="-1" strike="noStrike" u="sng">
                <a:solidFill>
                  <a:srgbClr val="ffffff"/>
                </a:solidFill>
                <a:uFillTx/>
                <a:latin typeface="Trebuchet MS"/>
              </a:rPr>
              <a:t>About 20 clients to work together how to stop murder.</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 What is this program trying to accomplish? Where will your program focus upon?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ey like to tell police officers about crime and make technology system that can stop murder easily in Mt. Air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4) How many people will I need to employ and in what positions?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to employ 100 people in police officers</a:t>
            </a:r>
            <a:r>
              <a:rPr b="0" lang="en-US" sz="1800" spc="-1" strike="noStrike">
                <a:solidFill>
                  <a:srgbClr val="ffffff"/>
                </a:solidFill>
                <a:latin typeface="Trebuchet MS"/>
              </a:rPr>
              <a:t> </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txBox="1"/>
          <p:nvPr/>
        </p:nvSpPr>
        <p:spPr>
          <a:xfrm>
            <a:off x="779040" y="473040"/>
            <a:ext cx="7583400" cy="5951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 What other resources do I need? (Buildings, land, supplies, security, etc.)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need other resources are Law enforcement, Police Department, and Private Investigation.</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 What are my costs and for how long? (Salaries, rents, services, supplies etc.)</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250,000 is important for our crime fighting efforts for annually.</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7) Where does this funding come fro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This funding come from ShotSpotter System </a:t>
            </a:r>
            <a:r>
              <a:rPr b="0" lang="en-US" sz="2000" spc="-1" strike="noStrike" u="sng">
                <a:solidFill>
                  <a:srgbClr val="ffffff"/>
                </a:solidFill>
                <a:uFillTx/>
                <a:latin typeface="Times New Roman"/>
              </a:rPr>
              <a:t>&amp;</a:t>
            </a:r>
            <a:r>
              <a:rPr b="0" lang="en-US" sz="1800" spc="-1" strike="noStrike" u="sng">
                <a:solidFill>
                  <a:srgbClr val="ffffff"/>
                </a:solidFill>
                <a:uFillTx/>
                <a:latin typeface="Trebuchet MS"/>
              </a:rPr>
              <a:t> Federal govern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8) What am I calling this program?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u="sng">
                <a:solidFill>
                  <a:srgbClr val="ffffff"/>
                </a:solidFill>
                <a:uFillTx/>
                <a:latin typeface="Trebuchet MS"/>
              </a:rPr>
              <a:t>I am calling this program Crime Investigation.</a:t>
            </a: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unter-arguments</a:t>
            </a:r>
            <a:r>
              <a:rPr b="0" lang="en-US" sz="3800" spc="-1" strike="noStrike">
                <a:solidFill>
                  <a:srgbClr val="ffffff"/>
                </a:solidFill>
                <a:latin typeface="Trebuchet MS"/>
              </a:rPr>
              <a:t>:</a:t>
            </a:r>
            <a:endParaRPr b="0" lang="en-US" sz="3800" spc="-1" strike="noStrike">
              <a:solidFill>
                <a:srgbClr val="ffffff"/>
              </a:solidFill>
              <a:latin typeface="Trebuchet MS"/>
            </a:endParaRPr>
          </a:p>
        </p:txBody>
      </p:sp>
      <p:sp>
        <p:nvSpPr>
          <p:cNvPr id="760" name=""/>
          <p:cNvSpPr txBox="1"/>
          <p:nvPr/>
        </p:nvSpPr>
        <p:spPr>
          <a:xfrm>
            <a:off x="339480" y="1828800"/>
            <a:ext cx="8445240" cy="420840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people say that Ceasefire, and other programs intended stop crime, will not succeed or can’t stop all murder. Others don’t think these programs can make better technology to stop murder easily.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would say that Ceasefire is working on stop crime and they will make technology that can hear sounds of gunfire and set hotspots that can stop murder. They are trying to stop all murder as their best as they can do it.</a:t>
            </a:r>
            <a:endParaRPr b="0" lang="en-US" sz="24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losing</a:t>
            </a:r>
            <a:r>
              <a:rPr b="0" lang="en-US" sz="3800" spc="-1" strike="noStrike">
                <a:solidFill>
                  <a:srgbClr val="ffffff"/>
                </a:solidFill>
                <a:latin typeface="Trebuchet MS"/>
              </a:rPr>
              <a:t>: </a:t>
            </a:r>
            <a:endParaRPr b="0" lang="en-US" sz="3800" spc="-1" strike="noStrike">
              <a:solidFill>
                <a:srgbClr val="ffffff"/>
              </a:solidFill>
              <a:latin typeface="Trebuchet MS"/>
            </a:endParaRPr>
          </a:p>
        </p:txBody>
      </p:sp>
      <p:sp>
        <p:nvSpPr>
          <p:cNvPr id="763" name=""/>
          <p:cNvSpPr txBox="1"/>
          <p:nvPr/>
        </p:nvSpPr>
        <p:spPr>
          <a:xfrm>
            <a:off x="264960" y="1828440"/>
            <a:ext cx="8097840" cy="46990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hope you believe these programs and my responses are true, because police officers want our communities to stay safe and no crime.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their goal. If you do believe or not, police officers and Ceasefire are working on stopping crime and never give up their work.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y want no violation or crime in our community, only then they will stop working on crime. Thank you for listening to my presentation and hope you liked it and believe i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nclusion</a:t>
            </a:r>
            <a:r>
              <a:rPr b="0" lang="en-US" sz="3800" spc="-1" strike="noStrike">
                <a:solidFill>
                  <a:srgbClr val="ffffff"/>
                </a:solidFill>
                <a:latin typeface="Trebuchet MS"/>
              </a:rPr>
              <a:t>: (Easybib)</a:t>
            </a:r>
            <a:endParaRPr b="0" lang="en-US" sz="3800" spc="-1" strike="noStrike">
              <a:solidFill>
                <a:srgbClr val="ffffff"/>
              </a:solidFill>
              <a:latin typeface="Trebuchet MS"/>
            </a:endParaRPr>
          </a:p>
        </p:txBody>
      </p:sp>
      <p:sp>
        <p:nvSpPr>
          <p:cNvPr id="765" name=""/>
          <p:cNvSpPr txBox="1"/>
          <p:nvPr/>
        </p:nvSpPr>
        <p:spPr>
          <a:xfrm>
            <a:off x="779040" y="1623600"/>
            <a:ext cx="7583400" cy="48294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u="sng">
                <a:solidFill>
                  <a:srgbClr val="ffffff"/>
                </a:solidFill>
                <a:uFillTx/>
                <a:latin typeface="Trebuchet MS"/>
              </a:rPr>
              <a:t>Works Cited:</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ray, Madison. "How to Turn Around a Gang Member - TIME." </a:t>
            </a:r>
            <a:r>
              <a:rPr b="0" i="1" lang="en-US" sz="1600" spc="-1" strike="noStrike">
                <a:solidFill>
                  <a:srgbClr val="ffffff"/>
                </a:solidFill>
                <a:latin typeface="Trebuchet MS"/>
              </a:rPr>
              <a:t>Breaking News, Analysis, Politics, Blogs, News Photos, Video, Tech Reviews - TIME.com</a:t>
            </a:r>
            <a:r>
              <a:rPr b="0" lang="en-US" sz="1600" spc="-1" strike="noStrike">
                <a:solidFill>
                  <a:srgbClr val="ffffff"/>
                </a:solidFill>
                <a:latin typeface="Trebuchet MS"/>
              </a:rPr>
              <a:t>. 2 Sept. 2009. Web. 13 Sept. 2011. &lt;http://www.time.com/time/nation/article/0,8599,1919253,00.html&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ynolds, Julia. "Trying to Get a Grip on Gang Violence, Salinas Embarks on Innovative Plan." </a:t>
            </a:r>
            <a:r>
              <a:rPr b="0" i="1" lang="en-US" sz="1600" spc="-1" strike="noStrike">
                <a:solidFill>
                  <a:srgbClr val="ffffff"/>
                </a:solidFill>
                <a:latin typeface="Trebuchet MS"/>
              </a:rPr>
              <a:t>Mercury News</a:t>
            </a:r>
            <a:r>
              <a:rPr b="0" lang="en-US" sz="1600" spc="-1" strike="noStrike">
                <a:solidFill>
                  <a:srgbClr val="ffffff"/>
                </a:solidFill>
                <a:latin typeface="Trebuchet MS"/>
              </a:rPr>
              <a:t>. Copyright @ 2011- San Jose Mercury News, 13 Sept. 2009. Web. 20 Sept. 2011. &lt;http://www.mercurnews.com/centralcoast/ci_13327638&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hapiro, Paul. "Legis. Cooper Calls For Shotspots For Hotspots - Huntington, NY Patch." </a:t>
            </a:r>
            <a:r>
              <a:rPr b="0" i="1" lang="en-US" sz="1600" spc="-1" strike="noStrike">
                <a:solidFill>
                  <a:srgbClr val="ffffff"/>
                </a:solidFill>
                <a:latin typeface="Trebuchet MS"/>
              </a:rPr>
              <a:t>Huntington, NY Patch - News, Sports, Events, Businesses &amp; Deals</a:t>
            </a:r>
            <a:r>
              <a:rPr b="0" lang="en-US" sz="1600" spc="-1" strike="noStrike">
                <a:solidFill>
                  <a:srgbClr val="ffffff"/>
                </a:solidFill>
                <a:latin typeface="Trebuchet MS"/>
              </a:rPr>
              <a:t>. 30 Sept. 2010. Web. 12 Sept. 2011. &lt;http://huntington.patch.com/articles/legis-cooper-calls-for-shotspots-for-hotspots&gt;.</a:t>
            </a:r>
            <a:endParaRPr b="0" lang="en-US" sz="1600" spc="-1" strike="noStrike">
              <a:solidFill>
                <a:srgbClr val="ffffff"/>
              </a:solidFill>
              <a:latin typeface="Trebuchet MS"/>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liter, Lauren. "Oakland’s Controversial Crime Prevention Measure Receives National Recognition." </a:t>
            </a:r>
            <a:r>
              <a:rPr b="0" i="1" lang="en-US" sz="1600" spc="-1" strike="noStrike">
                <a:solidFill>
                  <a:srgbClr val="ffffff"/>
                </a:solidFill>
                <a:latin typeface="Trebuchet MS"/>
              </a:rPr>
              <a:t>The Campanil | Keeping in Time with the Mills Community since 1917</a:t>
            </a:r>
            <a:r>
              <a:rPr b="0" lang="en-US" sz="1600" spc="-1" strike="noStrike">
                <a:solidFill>
                  <a:srgbClr val="ffffff"/>
                </a:solidFill>
                <a:latin typeface="Trebuchet MS"/>
              </a:rPr>
              <a:t>. 30 Sept. 2010. Web. 20 Sept. 2011. &lt;http://www.thecampanil.com/oaklands-crime-prevention-measure-receives-national-recognition&gt;. </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923920" y="0"/>
            <a:ext cx="6219720" cy="37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Introduction</a:t>
            </a:r>
            <a:endParaRPr b="0"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383760" y="457200"/>
            <a:ext cx="7978680" cy="5981760"/>
          </a:xfrm>
          <a:prstGeom prst="rect">
            <a:avLst/>
          </a:prstGeom>
          <a:noFill/>
          <a:ln w="0">
            <a:noFill/>
          </a:ln>
        </p:spPr>
        <p:txBody>
          <a:bodyPr anchor="t">
            <a:normAutofit/>
          </a:bodyPr>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Do you feel Cincinnati does well fighting crime?  In Oakland, a program exists in which homicides dropped about 20% from 2007-2008 and gang affiliation reduced about 38% in first six months.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is a program we might be able to bring to Cincinnati.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Do you think Cincinnati will lay off then rehire police officers like Oakland did? </a:t>
            </a:r>
            <a:endParaRPr b="0" lang="en-US" sz="2400" spc="-1" strike="noStrike">
              <a:solidFill>
                <a:srgbClr val="ffffff"/>
              </a:solidFill>
              <a:latin typeface="Trebuchet MS"/>
            </a:endParaRPr>
          </a:p>
          <a:p>
            <a:pPr marL="465120" indent="28260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akland wanted police officers who had been laid off to come back to work again. Cincinnati doesn’t want to lay off police officers, because they need protection from crim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Research</a:t>
            </a:r>
            <a:endParaRPr b="0" lang="en-US" sz="3800" spc="-1" strike="noStrike">
              <a:solidFill>
                <a:srgbClr val="ffffff"/>
              </a:solidFill>
              <a:latin typeface="Trebuchet MS"/>
            </a:endParaRPr>
          </a:p>
        </p:txBody>
      </p:sp>
      <p:sp>
        <p:nvSpPr>
          <p:cNvPr id="747" name=""/>
          <p:cNvSpPr txBox="1"/>
          <p:nvPr/>
        </p:nvSpPr>
        <p:spPr>
          <a:xfrm>
            <a:off x="280800" y="1639440"/>
            <a:ext cx="8592840" cy="49467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Agencies create more tactical response and crime prevention strategies to make communities saf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Law enforcement agencies use ShotSpotter Gunshot Location System to inform them of gun crime by firearms and violent crime alert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They have seen a dramatic difference in our areas by ShotSpotter’s system.</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4.Police Department studied the feasibility of implementing ShotSpotter to target gun violence.</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5.They don’t use word “gang” as issue of behavior.</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txBox="1"/>
          <p:nvPr/>
        </p:nvSpPr>
        <p:spPr>
          <a:xfrm>
            <a:off x="779040" y="-360"/>
            <a:ext cx="7583400" cy="655164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6.Police like to tell that trusted people in the  community who know this gang to convince felons to put down gun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7. Governor slashed spending funds - loss of 159 staff job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8. Police Superintendant said that they don’t want to toss a gang in jail because they have gang groups from different place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9. The gang isn’t making any money, just playing the violence game.  It means they think killing is like their toys.</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rebuchet MS"/>
              </a:rPr>
              <a:t>10. Oakland allowed police force to decline as retirement to save money without police academie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177840" y="428760"/>
            <a:ext cx="8184960" cy="6325920"/>
          </a:xfrm>
          <a:prstGeom prst="rect">
            <a:avLst/>
          </a:prstGeom>
          <a:noFill/>
          <a:ln w="0">
            <a:noFill/>
          </a:ln>
        </p:spPr>
        <p:txBody>
          <a:bodyPr anchor="t">
            <a:normAutofit/>
          </a:bodyPr>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1. The city needs neighborhood police officers back on the job because they need more police officers to stop crim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2. Oakland wanted to copy Chicago’s Ceasefire model, because it provides youth with alternatives to gang behavior as well as increase awareness about dangers of youth violence.</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3. Most men are hard-core gang members.  This means they are not scared of police and easily beat small groups.</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They hope that gangs will listen to officers who say, “We care about you, and we care about your community.”</a:t>
            </a:r>
            <a:endParaRPr b="0" lang="en-US" sz="2200" spc="-1" strike="noStrike">
              <a:solidFill>
                <a:srgbClr val="ffffff"/>
              </a:solidFill>
              <a:latin typeface="Trebuchet MS"/>
            </a:endParaRPr>
          </a:p>
          <a:p>
            <a:pPr marL="282600" indent="-282600">
              <a:spcBef>
                <a:spcPts val="20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ficer Contreras hopes that Ceasefire will bring a new focus to solve its escalating gang murder count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Collaboration</a:t>
            </a:r>
            <a:endParaRPr b="0" lang="en-US" sz="3800" spc="-1" strike="noStrike">
              <a:solidFill>
                <a:srgbClr val="ffffff"/>
              </a:solidFill>
              <a:latin typeface="Trebuchet MS"/>
            </a:endParaRPr>
          </a:p>
        </p:txBody>
      </p:sp>
      <p:sp>
        <p:nvSpPr>
          <p:cNvPr id="751" name=""/>
          <p:cNvSpPr txBox="1"/>
          <p:nvPr/>
        </p:nvSpPr>
        <p:spPr>
          <a:xfrm>
            <a:off x="295200" y="1828800"/>
            <a:ext cx="8506080" cy="4208400"/>
          </a:xfrm>
          <a:prstGeom prst="rect">
            <a:avLst/>
          </a:prstGeom>
          <a:noFill/>
          <a:ln w="0">
            <a:noFill/>
          </a:ln>
        </p:spPr>
        <p:txBody>
          <a:bodyPr anchor="t">
            <a:normAutofit fontScale="98000"/>
          </a:bodyPr>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lice officers want to keep reducing crime instances. People are more likely to be at risk of criminal involvement if these officers didn’t work on reducing crime.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easefire has proven to be a more effective crime-reducing program than other programs.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experts says that they understand police officer efforts to catch criminals, but they are not easy to catch. </a:t>
            </a:r>
            <a:endParaRPr b="0" lang="en-US" sz="2200" spc="-1" strike="noStrike">
              <a:solidFill>
                <a:srgbClr val="ffffff"/>
              </a:solidFill>
              <a:latin typeface="Trebuchet MS"/>
            </a:endParaRPr>
          </a:p>
          <a:p>
            <a:pPr marL="45576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other expert says that he is happy when they set Hot Spots, technology that has made catching criminals faster than calling 911.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191880"/>
            <a:ext cx="75834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Trebuchet MS"/>
              </a:rPr>
              <a:t>My Plan</a:t>
            </a:r>
            <a:endParaRPr b="0" lang="en-US" sz="3800" spc="-1" strike="noStrike">
              <a:solidFill>
                <a:srgbClr val="ffffff"/>
              </a:solidFill>
              <a:latin typeface="Trebuchet MS"/>
            </a:endParaRPr>
          </a:p>
        </p:txBody>
      </p:sp>
      <p:sp>
        <p:nvSpPr>
          <p:cNvPr id="753" name=""/>
          <p:cNvSpPr txBox="1"/>
          <p:nvPr/>
        </p:nvSpPr>
        <p:spPr>
          <a:xfrm>
            <a:off x="206280" y="1222200"/>
            <a:ext cx="8756640" cy="543888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is very good program for stopping crime, because ShotSpotter sset up technology to find crimes and to catch sounds of gunfire that can hear easil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incinnati should get ShotSpotter because I think ShotSpotter can make our community better than ever before. I want people “to feel free and feel that no crime her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264600" y="295200"/>
            <a:ext cx="8580600" cy="6276960"/>
          </a:xfrm>
          <a:prstGeom prst="rect">
            <a:avLst/>
          </a:prstGeom>
          <a:noFill/>
          <a:ln w="0">
            <a:noFill/>
          </a:ln>
        </p:spPr>
        <p:txBody>
          <a:bodyPr anchor="t">
            <a:normAutofit/>
          </a:bodyPr>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 a result of the ShotSpotter system, New York has had arrests and recoveries of weapons; there have even been some instances where they were able to get medical attention to victims before a 911 call had been received by NCPD Communications Bureau from Nassau County.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tSpotter has helped to reduce crime, and Cincinnati could use this program too. </a:t>
            </a:r>
            <a:endParaRPr b="0" lang="en-US" sz="2400" spc="-1" strike="noStrike">
              <a:solidFill>
                <a:srgbClr val="ffffff"/>
              </a:solidFill>
              <a:latin typeface="Trebuchet MS"/>
            </a:endParaRPr>
          </a:p>
          <a:p>
            <a:pPr marL="46512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islator Cooper's bill gave the Suffolk County Police Department 60 days to study the feasibility of implementing ShotSpotter and to determine which communities would most benefit from this proprietary acoustic surveillance technology system.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4:34:21Z</dcterms:created>
  <dc:creator>admin</dc:creator>
  <dc:description/>
  <dc:language>en-US</dc:language>
  <cp:lastModifiedBy>admin</cp:lastModifiedBy>
  <dcterms:modified xsi:type="dcterms:W3CDTF">2011-10-10T15:13:19Z</dcterms:modified>
  <cp:revision>4</cp:revision>
  <dc:subject/>
  <dc:title>Crime Investigation</dc:title>
</cp:coreProperties>
</file>